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1C1-AEB1-4EDB-80BC-ADDDCFFE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D04-63A1-4BB4-8D22-C86BA4A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DE4-8E70-416C-A07C-1ED74281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61E-2047-4A3F-BBA9-69BD660C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7BA-A823-44CD-9333-346B40B0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985-FAC2-4004-BA9E-0D2E6F9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3BC-EF78-4A39-970B-4643A43D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4A4-C76E-417A-ACCA-10EE639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36C-20C3-410C-ACDE-D24B2AA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F0F-60C8-4853-AA54-463FCEB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A6B-2A94-4DBF-A542-8842529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E73-EC57-4702-96C4-B5FA027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4ED-8C67-4B84-9ED5-89C88A2A6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se of Mary J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chelle Pet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Call Me Pet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ame’s Pettit, Richelle Pettit. I am a palynologist from the CSI lab in Las Vegas, Nevada. I graduated from UCLA  with my doctorate in Palynology and a minor in Studliness. I have currently done investigations for Lil’ Wayne, Lindsay Lohan, and Barack Obama. I am known as the brightest young palynologist in th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247644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4546440"/>
            <a:ext cx="2057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ne powder like material consisting of pollen grains that is produced by the anthers of seed pl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produced in the microsporangium of the plant, also known as the an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llen for each kind of tree or flower is distinctive to that species, so there is no definite description for what pollen in general looks like - the grains aren't even all round; the size also v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 is microscopic in most cases. It looks like tiny little yellow gr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certain seasons when pollen is produced. The pollen has to be mat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’s function is to reprod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 be transferred by wind, animals, or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len is distinct to every pl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juana and P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ollen looks green or brown and has a hairy appearance. It is mic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lants produce an abundance of pollen because they are wind pollin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Princi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rd’s Principal states that contact between individuals and locations leads to an exchange of trace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uana plants transfer pollen by wind transfer. Pollen can also fall off of the plant and be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en is distinct to the plant it is from, which can tell the location and possible times of the cr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en in th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indeed a large quantity of marijuana pollen found in this apar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eam, “New Directions”, collected the evidence while wearing gloves and using tape. We transported the pollen to our lab and carefully examined it under a micro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len looked brown and fuzzy and had a distinct appearance matching marijuana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y background in palynology and minor in studliness gave me enough information to prove that marijuana was found in this apartment…and a lot of it at that! These college students have been smoking and selling more marijuana than Michael Phelps after the Olympic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ase closed for Pettit…Richelle Pett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417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 Bongs, waterpipes, glass pipes, smoking accessories - Grasscity.com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ngs, waterpipes, glass pipes, smoking accessories - Grasscity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forum.grasscity.or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Forensic Palynology: A New Way to Catch Crooks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lcome to Crime and C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crimeandclues.com/index.php/physical-evidence/trace-evidence/67-forensic-palynology-a-new-way-to-catch-crooks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Material policial, placas de policía, insignias militares y equipamiento policial y táctico. Material para el vigilante de seguridad y escolta privado. Portaplacas de policía.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erial policial, placas de policía, insignias militares y equipamiento policial y táctico. Material para el vigilante de seguridad y escolta privado. Portaplacas de policí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insigniaspolici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Pollen - Wikipedia, the free encyclopedia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en.wikipedia.org/wiki/Pollen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University of Massachusetts Amherst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versity of Massachusetts Amher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www.umass.edu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. "Cannabis (drug) - Wikipedia, the free encyclopedia."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kipedia, the free encycloped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N.p., n.d. Web. 8 Dec. 2010. &lt;http://en.wikipedia.org/wiki/Cannabis_(drug)&gt;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33:43Z</dcterms:created>
  <dc:creator>rpett807</dc:creator>
  <dc:description/>
  <dc:language>en-US</dc:language>
  <cp:lastModifiedBy>rpett807</cp:lastModifiedBy>
  <dcterms:modified xsi:type="dcterms:W3CDTF">2010-12-08T20:21:57Z</dcterms:modified>
  <cp:revision>4</cp:revision>
  <dc:subject/>
  <dc:title>The Case of Mary Jane</dc:title>
</cp:coreProperties>
</file>